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244-78FA-486B-977D-66DFD4FC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EE1-3978-43B8-880B-8D081598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C01-8CC8-40C8-B599-3171898C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09D-2A6F-433A-A383-3B9FC351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41A-7648-4626-A255-52F78D0B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01C-21F8-4012-9C36-FBDE7B91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AB4-3012-4EDA-AC8C-ED107747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677-B0DD-4843-9583-BAC5AF4C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E9D-7972-4AAD-85AA-E3051D94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9C5-37C6-4671-AEF0-1417FB1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F51-BA00-4FE4-B3B6-97149B9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FF4-2F30-461C-8BA1-34F989DD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0A02-1E2B-42CA-83F1-C91973BFF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is not well in GRAC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tart of the second millenium A.D, there were some major issues within the Chu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pope be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clergy be able to get marr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positions in the Church be 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as more power: Church or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bishops wear the funny h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urch ceremonies performed on the lands of the L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ed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apt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igious services at all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is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last thing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had a spiritual emp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of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e got advice from his advisors (called the Cu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e had his own agents (leg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taxes (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hristian family gave at least 1/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ir income in a tit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he money to care for the poor, orphans, and le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a little bit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sy: (only applies to members of the Chu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b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/state something that is against the teachings of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alilleo,the earth is not the center of the universe.  Its incredibly hard to prove, it’s the Church’s word against yours…. (By the way, you will always lose her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urged its followers to stamp out all non-beli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ly the Muslims (which we will get to l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pons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mination – In some cases, over zealous leaders in the Church had whole villages executed for being her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qui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organization within the Church -experts in finding and judging here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ed everywhere for heresy and believed anything (even documented rumo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rture and extreme interrogation to ge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sible to prove innoc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inquisition"/>
          <p:cNvPicPr/>
          <p:nvPr/>
        </p:nvPicPr>
        <p:blipFill>
          <a:blip r:embed="rId1"/>
          <a:stretch/>
        </p:blipFill>
        <p:spPr>
          <a:xfrm>
            <a:off x="609480" y="1371600"/>
            <a:ext cx="3705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ther weap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ar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monks (took vows of chastity, poverty, and obedience) , spread the word of the Church and win back here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ars are not monks -they live amongst other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ican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 the teaching of Dominic (Sp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into learning (Dominic was a schola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ed in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isc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 Francis of Assisi (It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ouch with nature and the animals because all were his spiritual br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ed in bro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riar_Tuck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must be P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 started with some new monasteries in France (Cluny to be particu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y who owned the land (the Duke of Aquitaine) did not try to make the monastery work for him, so it had more aut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ny became known as particularly pure and lots of other monasteries followed their l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luny became known for purity, the Cistercian order of monks went even further and only built their monasteries in the wilderne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4"/>
          <p:cNvSpPr/>
          <p:nvPr/>
        </p:nvSpPr>
        <p:spPr>
          <a:xfrm>
            <a:off x="984240" y="2297160"/>
            <a:ext cx="4883040" cy="84240"/>
          </a:xfrm>
          <a:custGeom>
            <a:avLst/>
            <a:gdLst/>
            <a:ahLst/>
            <a:rect l="l" t="t" r="r" b="b"/>
            <a:pathLst>
              <a:path w="13561" h="235">
                <a:moveTo>
                  <a:pt x="2736" y="6575"/>
                </a:moveTo>
                <a:cubicBezTo>
                  <a:pt x="2750" y="6577"/>
                  <a:pt x="2773" y="6594"/>
                  <a:pt x="2791" y="6596"/>
                </a:cubicBezTo>
                <a:cubicBezTo>
                  <a:pt x="3429" y="6664"/>
                  <a:pt x="4098" y="6594"/>
                  <a:pt x="4738" y="6580"/>
                </a:cubicBezTo>
                <a:cubicBezTo>
                  <a:pt x="7080" y="6529"/>
                  <a:pt x="9421" y="6409"/>
                  <a:pt x="11763" y="6383"/>
                </a:cubicBezTo>
                <a:cubicBezTo>
                  <a:pt x="13126" y="6368"/>
                  <a:pt x="14492" y="6368"/>
                  <a:pt x="15855" y="6385"/>
                </a:cubicBezTo>
                <a:cubicBezTo>
                  <a:pt x="15973" y="6387"/>
                  <a:pt x="16185" y="6351"/>
                  <a:pt x="16296" y="6395"/>
                </a:cubicBezTo>
                <a:cubicBezTo>
                  <a:pt x="16323" y="6406"/>
                  <a:pt x="16214" y="6444"/>
                  <a:pt x="16242" y="64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5"/>
          <p:cNvSpPr/>
          <p:nvPr/>
        </p:nvSpPr>
        <p:spPr>
          <a:xfrm>
            <a:off x="2997360" y="3551400"/>
            <a:ext cx="5163840" cy="123840"/>
          </a:xfrm>
          <a:custGeom>
            <a:avLst/>
            <a:gdLst/>
            <a:ahLst/>
            <a:rect l="l" t="t" r="r" b="b"/>
            <a:pathLst>
              <a:path w="14344" h="343">
                <a:moveTo>
                  <a:pt x="8534" y="10081"/>
                </a:moveTo>
                <a:cubicBezTo>
                  <a:pt x="8464" y="10075"/>
                  <a:pt x="8395" y="10066"/>
                  <a:pt x="8326" y="10058"/>
                </a:cubicBezTo>
                <a:cubicBezTo>
                  <a:pt x="8359" y="10053"/>
                  <a:pt x="8402" y="10036"/>
                  <a:pt x="8438" y="10031"/>
                </a:cubicBezTo>
                <a:cubicBezTo>
                  <a:pt x="10750" y="9704"/>
                  <a:pt x="13153" y="9872"/>
                  <a:pt x="15475" y="9950"/>
                </a:cubicBezTo>
                <a:cubicBezTo>
                  <a:pt x="17469" y="10017"/>
                  <a:pt x="19462" y="10124"/>
                  <a:pt x="21456" y="10193"/>
                </a:cubicBezTo>
                <a:cubicBezTo>
                  <a:pt x="21809" y="10205"/>
                  <a:pt x="22314" y="10299"/>
                  <a:pt x="22660" y="10175"/>
                </a:cubicBezTo>
                <a:cubicBezTo>
                  <a:pt x="22692" y="10164"/>
                  <a:pt x="22628" y="10120"/>
                  <a:pt x="22628" y="1012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6"/>
          <p:cNvSpPr/>
          <p:nvPr/>
        </p:nvSpPr>
        <p:spPr>
          <a:xfrm>
            <a:off x="1174680" y="3946680"/>
            <a:ext cx="1594080" cy="68040"/>
          </a:xfrm>
          <a:custGeom>
            <a:avLst/>
            <a:gdLst/>
            <a:ahLst/>
            <a:rect l="l" t="t" r="r" b="b"/>
            <a:pathLst>
              <a:path w="4427" h="191">
                <a:moveTo>
                  <a:pt x="3306" y="11151"/>
                </a:moveTo>
                <a:cubicBezTo>
                  <a:pt x="3319" y="11143"/>
                  <a:pt x="3248" y="11147"/>
                  <a:pt x="3264" y="11146"/>
                </a:cubicBezTo>
                <a:cubicBezTo>
                  <a:pt x="3271" y="11145"/>
                  <a:pt x="3313" y="11146"/>
                  <a:pt x="3324" y="11145"/>
                </a:cubicBezTo>
                <a:cubicBezTo>
                  <a:pt x="3803" y="11119"/>
                  <a:pt x="4280" y="11067"/>
                  <a:pt x="4758" y="11028"/>
                </a:cubicBezTo>
                <a:cubicBezTo>
                  <a:pt x="5646" y="10956"/>
                  <a:pt x="6549" y="10908"/>
                  <a:pt x="7430" y="11067"/>
                </a:cubicBezTo>
                <a:cubicBezTo>
                  <a:pt x="7510" y="11082"/>
                  <a:pt x="7592" y="11101"/>
                  <a:pt x="7673" y="11110"/>
                </a:cubicBezTo>
                <a:cubicBezTo>
                  <a:pt x="7678" y="11109"/>
                  <a:pt x="7683" y="11109"/>
                  <a:pt x="7688" y="111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7"/>
          <p:cNvSpPr/>
          <p:nvPr/>
        </p:nvSpPr>
        <p:spPr>
          <a:xfrm>
            <a:off x="1839960" y="4280040"/>
            <a:ext cx="6018120" cy="139680"/>
          </a:xfrm>
          <a:custGeom>
            <a:avLst/>
            <a:gdLst/>
            <a:ahLst/>
            <a:rect l="l" t="t" r="r" b="b"/>
            <a:pathLst>
              <a:path w="16713" h="388">
                <a:moveTo>
                  <a:pt x="5113" y="12274"/>
                </a:moveTo>
                <a:cubicBezTo>
                  <a:pt x="5220" y="12246"/>
                  <a:pt x="5335" y="12193"/>
                  <a:pt x="5465" y="12175"/>
                </a:cubicBezTo>
                <a:cubicBezTo>
                  <a:pt x="9870" y="11563"/>
                  <a:pt x="14558" y="11808"/>
                  <a:pt x="18971" y="12100"/>
                </a:cubicBezTo>
                <a:cubicBezTo>
                  <a:pt x="19566" y="12139"/>
                  <a:pt x="21235" y="12570"/>
                  <a:pt x="21785" y="12262"/>
                </a:cubicBezTo>
                <a:cubicBezTo>
                  <a:pt x="21880" y="12209"/>
                  <a:pt x="21662" y="12193"/>
                  <a:pt x="21620" y="12170"/>
                </a:cubicBezTo>
                <a:cubicBezTo>
                  <a:pt x="21568" y="12157"/>
                  <a:pt x="21515" y="12143"/>
                  <a:pt x="21463" y="1213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8"/>
          <p:cNvSpPr/>
          <p:nvPr/>
        </p:nvSpPr>
        <p:spPr>
          <a:xfrm>
            <a:off x="1793880" y="4619520"/>
            <a:ext cx="5667480" cy="219240"/>
          </a:xfrm>
          <a:custGeom>
            <a:avLst/>
            <a:gdLst/>
            <a:ahLst/>
            <a:rect l="l" t="t" r="r" b="b"/>
            <a:pathLst>
              <a:path w="15746" h="607">
                <a:moveTo>
                  <a:pt x="4981" y="13438"/>
                </a:moveTo>
                <a:cubicBezTo>
                  <a:pt x="5140" y="13370"/>
                  <a:pt x="5282" y="13290"/>
                  <a:pt x="5464" y="13244"/>
                </a:cubicBezTo>
                <a:cubicBezTo>
                  <a:pt x="6583" y="12962"/>
                  <a:pt x="7827" y="12993"/>
                  <a:pt x="8970" y="12938"/>
                </a:cubicBezTo>
                <a:cubicBezTo>
                  <a:pt x="11575" y="12813"/>
                  <a:pt x="18507" y="14287"/>
                  <a:pt x="20611" y="12986"/>
                </a:cubicBezTo>
                <a:cubicBezTo>
                  <a:pt x="20785" y="12878"/>
                  <a:pt x="20694" y="13029"/>
                  <a:pt x="20650" y="12903"/>
                </a:cubicBezTo>
                <a:cubicBezTo>
                  <a:pt x="20534" y="12866"/>
                  <a:pt x="20487" y="12852"/>
                  <a:pt x="20404" y="128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9"/>
          <p:cNvSpPr/>
          <p:nvPr/>
        </p:nvSpPr>
        <p:spPr>
          <a:xfrm>
            <a:off x="2397240" y="4441680"/>
            <a:ext cx="5497560" cy="168480"/>
          </a:xfrm>
          <a:custGeom>
            <a:avLst/>
            <a:gdLst/>
            <a:ahLst/>
            <a:rect l="l" t="t" r="r" b="b"/>
            <a:pathLst>
              <a:path w="15269" h="471">
                <a:moveTo>
                  <a:pt x="6850" y="12732"/>
                </a:moveTo>
                <a:cubicBezTo>
                  <a:pt x="6784" y="12716"/>
                  <a:pt x="6716" y="12690"/>
                  <a:pt x="6660" y="12672"/>
                </a:cubicBezTo>
                <a:cubicBezTo>
                  <a:pt x="6716" y="12658"/>
                  <a:pt x="6795" y="12612"/>
                  <a:pt x="6865" y="12599"/>
                </a:cubicBezTo>
                <a:cubicBezTo>
                  <a:pt x="7950" y="12402"/>
                  <a:pt x="9105" y="12411"/>
                  <a:pt x="10203" y="12377"/>
                </a:cubicBezTo>
                <a:cubicBezTo>
                  <a:pt x="13921" y="12261"/>
                  <a:pt x="17599" y="12490"/>
                  <a:pt x="21302" y="12779"/>
                </a:cubicBezTo>
                <a:cubicBezTo>
                  <a:pt x="21504" y="12795"/>
                  <a:pt x="21752" y="12807"/>
                  <a:pt x="21927" y="12785"/>
                </a:cubicBezTo>
                <a:cubicBezTo>
                  <a:pt x="21907" y="12777"/>
                  <a:pt x="21888" y="12770"/>
                  <a:pt x="21868" y="127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0"/>
          <p:cNvSpPr/>
          <p:nvPr/>
        </p:nvSpPr>
        <p:spPr>
          <a:xfrm>
            <a:off x="2165400" y="4695840"/>
            <a:ext cx="5611680" cy="189000"/>
          </a:xfrm>
          <a:custGeom>
            <a:avLst/>
            <a:gdLst/>
            <a:ahLst/>
            <a:rect l="l" t="t" r="r" b="b"/>
            <a:pathLst>
              <a:path w="15589" h="527">
                <a:moveTo>
                  <a:pt x="6126" y="13113"/>
                </a:moveTo>
                <a:cubicBezTo>
                  <a:pt x="6167" y="13138"/>
                  <a:pt x="5974" y="13168"/>
                  <a:pt x="6019" y="13183"/>
                </a:cubicBezTo>
                <a:cubicBezTo>
                  <a:pt x="6332" y="13286"/>
                  <a:pt x="6749" y="13210"/>
                  <a:pt x="7069" y="13197"/>
                </a:cubicBezTo>
                <a:cubicBezTo>
                  <a:pt x="11230" y="13024"/>
                  <a:pt x="15310" y="13091"/>
                  <a:pt x="19464" y="13429"/>
                </a:cubicBezTo>
                <a:cubicBezTo>
                  <a:pt x="19576" y="13438"/>
                  <a:pt x="21525" y="13637"/>
                  <a:pt x="21538" y="13563"/>
                </a:cubicBezTo>
                <a:cubicBezTo>
                  <a:pt x="21561" y="13430"/>
                  <a:pt x="21490" y="13624"/>
                  <a:pt x="21467" y="13450"/>
                </a:cubicBezTo>
                <a:cubicBezTo>
                  <a:pt x="21423" y="13431"/>
                  <a:pt x="21380" y="13412"/>
                  <a:pt x="21336" y="1339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1"/>
          <p:cNvSpPr/>
          <p:nvPr/>
        </p:nvSpPr>
        <p:spPr>
          <a:xfrm>
            <a:off x="1712880" y="5486400"/>
            <a:ext cx="6276960" cy="100080"/>
          </a:xfrm>
          <a:custGeom>
            <a:avLst/>
            <a:gdLst/>
            <a:ahLst/>
            <a:rect l="l" t="t" r="r" b="b"/>
            <a:pathLst>
              <a:path w="17439" h="278">
                <a:moveTo>
                  <a:pt x="4808" y="15258"/>
                </a:moveTo>
                <a:cubicBezTo>
                  <a:pt x="4805" y="15258"/>
                  <a:pt x="4803" y="15259"/>
                  <a:pt x="4800" y="15259"/>
                </a:cubicBezTo>
                <a:cubicBezTo>
                  <a:pt x="4820" y="15260"/>
                  <a:pt x="4744" y="15242"/>
                  <a:pt x="4764" y="15244"/>
                </a:cubicBezTo>
                <a:cubicBezTo>
                  <a:pt x="5131" y="15277"/>
                  <a:pt x="5500" y="15262"/>
                  <a:pt x="5870" y="15281"/>
                </a:cubicBezTo>
                <a:cubicBezTo>
                  <a:pt x="6845" y="15330"/>
                  <a:pt x="7802" y="15404"/>
                  <a:pt x="8780" y="15399"/>
                </a:cubicBezTo>
                <a:cubicBezTo>
                  <a:pt x="11198" y="15387"/>
                  <a:pt x="13619" y="15507"/>
                  <a:pt x="16036" y="15476"/>
                </a:cubicBezTo>
                <a:cubicBezTo>
                  <a:pt x="17746" y="15454"/>
                  <a:pt x="19498" y="15315"/>
                  <a:pt x="21205" y="15441"/>
                </a:cubicBezTo>
                <a:cubicBezTo>
                  <a:pt x="21535" y="15465"/>
                  <a:pt x="21867" y="15501"/>
                  <a:pt x="22194" y="15515"/>
                </a:cubicBezTo>
                <a:cubicBezTo>
                  <a:pt x="22182" y="15511"/>
                  <a:pt x="22176" y="15510"/>
                  <a:pt x="22167" y="155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2"/>
          <p:cNvSpPr/>
          <p:nvPr/>
        </p:nvSpPr>
        <p:spPr>
          <a:xfrm>
            <a:off x="1787400" y="5788080"/>
            <a:ext cx="5705640" cy="95040"/>
          </a:xfrm>
          <a:custGeom>
            <a:avLst/>
            <a:gdLst/>
            <a:ahLst/>
            <a:rect l="l" t="t" r="r" b="b"/>
            <a:pathLst>
              <a:path w="15852" h="266">
                <a:moveTo>
                  <a:pt x="5234" y="16339"/>
                </a:moveTo>
                <a:cubicBezTo>
                  <a:pt x="5138" y="16252"/>
                  <a:pt x="5052" y="16176"/>
                  <a:pt x="4964" y="16077"/>
                </a:cubicBezTo>
                <a:cubicBezTo>
                  <a:pt x="5583" y="16190"/>
                  <a:pt x="6205" y="16213"/>
                  <a:pt x="6836" y="16228"/>
                </a:cubicBezTo>
                <a:cubicBezTo>
                  <a:pt x="9403" y="16287"/>
                  <a:pt x="11968" y="16160"/>
                  <a:pt x="14536" y="16231"/>
                </a:cubicBezTo>
                <a:cubicBezTo>
                  <a:pt x="16546" y="16286"/>
                  <a:pt x="18611" y="16482"/>
                  <a:pt x="20618" y="16283"/>
                </a:cubicBezTo>
                <a:cubicBezTo>
                  <a:pt x="20684" y="16276"/>
                  <a:pt x="20749" y="16263"/>
                  <a:pt x="20815" y="162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3"/>
          <p:cNvSpPr/>
          <p:nvPr/>
        </p:nvSpPr>
        <p:spPr>
          <a:xfrm>
            <a:off x="6705720" y="5834160"/>
            <a:ext cx="885600" cy="3240"/>
          </a:xfrm>
          <a:custGeom>
            <a:avLst/>
            <a:gdLst/>
            <a:ahLst/>
            <a:rect l="l" t="t" r="r" b="b"/>
            <a:pathLst>
              <a:path w="2458" h="10">
                <a:moveTo>
                  <a:pt x="21085" y="16207"/>
                </a:moveTo>
                <a:cubicBezTo>
                  <a:pt x="21032" y="16207"/>
                  <a:pt x="20974" y="16205"/>
                  <a:pt x="20920" y="16205"/>
                </a:cubicBezTo>
                <a:cubicBezTo>
                  <a:pt x="20530" y="16207"/>
                  <a:pt x="20139" y="16206"/>
                  <a:pt x="19749" y="16209"/>
                </a:cubicBezTo>
                <a:cubicBezTo>
                  <a:pt x="19207" y="16214"/>
                  <a:pt x="19002" y="16216"/>
                  <a:pt x="18628" y="1621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loor creaks, the plumbing leaks, and we have corruption in the Chur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ormers wanted to get rid of the following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of priests – (It was already against the rules, but largely igno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buying and selling of Church offices (it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O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ts in bold so you will remember i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rch offices came with land and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, illegal, but whose watch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ave land and power to Church officials: a Church leader or a feudal lor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every gives the land, controls the m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 INVESTI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when the feudal lord gave land to a bis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4"/>
          <p:cNvSpPr/>
          <p:nvPr/>
        </p:nvSpPr>
        <p:spPr>
          <a:xfrm>
            <a:off x="1249200" y="2820960"/>
            <a:ext cx="2394000" cy="87480"/>
          </a:xfrm>
          <a:custGeom>
            <a:avLst/>
            <a:gdLst/>
            <a:ahLst/>
            <a:rect l="l" t="t" r="r" b="b"/>
            <a:pathLst>
              <a:path w="6652" h="242">
                <a:moveTo>
                  <a:pt x="3489" y="8030"/>
                </a:moveTo>
                <a:cubicBezTo>
                  <a:pt x="3485" y="8026"/>
                  <a:pt x="3477" y="8018"/>
                  <a:pt x="3470" y="8011"/>
                </a:cubicBezTo>
                <a:cubicBezTo>
                  <a:pt x="3495" y="8023"/>
                  <a:pt x="3475" y="8002"/>
                  <a:pt x="3485" y="8008"/>
                </a:cubicBezTo>
                <a:cubicBezTo>
                  <a:pt x="3510" y="8024"/>
                  <a:pt x="3517" y="8055"/>
                  <a:pt x="3552" y="8065"/>
                </a:cubicBezTo>
                <a:cubicBezTo>
                  <a:pt x="3724" y="8113"/>
                  <a:pt x="3945" y="8066"/>
                  <a:pt x="4120" y="8061"/>
                </a:cubicBezTo>
                <a:cubicBezTo>
                  <a:pt x="4949" y="8038"/>
                  <a:pt x="5779" y="8051"/>
                  <a:pt x="6608" y="8036"/>
                </a:cubicBezTo>
                <a:cubicBezTo>
                  <a:pt x="7572" y="8018"/>
                  <a:pt x="8561" y="8089"/>
                  <a:pt x="9521" y="7977"/>
                </a:cubicBezTo>
                <a:cubicBezTo>
                  <a:pt x="9677" y="7959"/>
                  <a:pt x="9827" y="7902"/>
                  <a:pt x="9979" y="7882"/>
                </a:cubicBezTo>
                <a:cubicBezTo>
                  <a:pt x="10004" y="7879"/>
                  <a:pt x="10017" y="7886"/>
                  <a:pt x="10041" y="7877"/>
                </a:cubicBezTo>
                <a:cubicBezTo>
                  <a:pt x="10051" y="7873"/>
                  <a:pt x="10056" y="7889"/>
                  <a:pt x="10066" y="7885"/>
                </a:cubicBezTo>
                <a:cubicBezTo>
                  <a:pt x="10074" y="7882"/>
                  <a:pt x="10077" y="7880"/>
                  <a:pt x="10084" y="7877"/>
                </a:cubicBezTo>
                <a:cubicBezTo>
                  <a:pt x="10099" y="7871"/>
                  <a:pt x="10106" y="7843"/>
                  <a:pt x="10121" y="783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5"/>
          <p:cNvSpPr/>
          <p:nvPr/>
        </p:nvSpPr>
        <p:spPr>
          <a:xfrm>
            <a:off x="2970360" y="2916360"/>
            <a:ext cx="752400" cy="55440"/>
          </a:xfrm>
          <a:custGeom>
            <a:avLst/>
            <a:gdLst/>
            <a:ahLst/>
            <a:rect l="l" t="t" r="r" b="b"/>
            <a:pathLst>
              <a:path w="2092" h="153">
                <a:moveTo>
                  <a:pt x="10341" y="8100"/>
                </a:moveTo>
                <a:cubicBezTo>
                  <a:pt x="10246" y="8126"/>
                  <a:pt x="10157" y="8137"/>
                  <a:pt x="10055" y="8146"/>
                </a:cubicBezTo>
                <a:cubicBezTo>
                  <a:pt x="9724" y="8176"/>
                  <a:pt x="9392" y="8190"/>
                  <a:pt x="9060" y="8207"/>
                </a:cubicBezTo>
                <a:cubicBezTo>
                  <a:pt x="8663" y="8227"/>
                  <a:pt x="8520" y="8234"/>
                  <a:pt x="8250" y="825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6"/>
          <p:cNvSpPr/>
          <p:nvPr/>
        </p:nvSpPr>
        <p:spPr>
          <a:xfrm>
            <a:off x="2351160" y="3809880"/>
            <a:ext cx="996840" cy="100080"/>
          </a:xfrm>
          <a:custGeom>
            <a:avLst/>
            <a:gdLst/>
            <a:ahLst/>
            <a:rect l="l" t="t" r="r" b="b"/>
            <a:pathLst>
              <a:path w="2768" h="277">
                <a:moveTo>
                  <a:pt x="9268" y="10653"/>
                </a:moveTo>
                <a:cubicBezTo>
                  <a:pt x="9275" y="10658"/>
                  <a:pt x="9275" y="10660"/>
                  <a:pt x="9279" y="10660"/>
                </a:cubicBezTo>
                <a:cubicBezTo>
                  <a:pt x="9280" y="10652"/>
                  <a:pt x="9297" y="10657"/>
                  <a:pt x="9296" y="10649"/>
                </a:cubicBezTo>
                <a:cubicBezTo>
                  <a:pt x="9294" y="10639"/>
                  <a:pt x="9303" y="10628"/>
                  <a:pt x="9297" y="10617"/>
                </a:cubicBezTo>
                <a:cubicBezTo>
                  <a:pt x="9282" y="10591"/>
                  <a:pt x="9255" y="10591"/>
                  <a:pt x="9228" y="10585"/>
                </a:cubicBezTo>
                <a:cubicBezTo>
                  <a:pt x="8974" y="10525"/>
                  <a:pt x="8621" y="10639"/>
                  <a:pt x="8371" y="10674"/>
                </a:cubicBezTo>
                <a:cubicBezTo>
                  <a:pt x="7849" y="10747"/>
                  <a:pt x="7309" y="10861"/>
                  <a:pt x="6780" y="10858"/>
                </a:cubicBezTo>
                <a:cubicBezTo>
                  <a:pt x="6671" y="10857"/>
                  <a:pt x="6573" y="10838"/>
                  <a:pt x="6533" y="10729"/>
                </a:cubicBezTo>
                <a:cubicBezTo>
                  <a:pt x="6534" y="10713"/>
                  <a:pt x="6534" y="10697"/>
                  <a:pt x="6535" y="1068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7"/>
          <p:cNvSpPr/>
          <p:nvPr/>
        </p:nvSpPr>
        <p:spPr>
          <a:xfrm>
            <a:off x="2236680" y="3770280"/>
            <a:ext cx="987480" cy="114480"/>
          </a:xfrm>
          <a:custGeom>
            <a:avLst/>
            <a:gdLst/>
            <a:ahLst/>
            <a:rect l="l" t="t" r="r" b="b"/>
            <a:pathLst>
              <a:path w="2740" h="317">
                <a:moveTo>
                  <a:pt x="8953" y="10504"/>
                </a:moveTo>
                <a:cubicBezTo>
                  <a:pt x="8890" y="10492"/>
                  <a:pt x="8828" y="10479"/>
                  <a:pt x="8764" y="10475"/>
                </a:cubicBezTo>
                <a:cubicBezTo>
                  <a:pt x="8585" y="10464"/>
                  <a:pt x="8400" y="10495"/>
                  <a:pt x="8223" y="10520"/>
                </a:cubicBezTo>
                <a:cubicBezTo>
                  <a:pt x="7925" y="10562"/>
                  <a:pt x="7628" y="10619"/>
                  <a:pt x="7331" y="10668"/>
                </a:cubicBezTo>
                <a:cubicBezTo>
                  <a:pt x="7065" y="10712"/>
                  <a:pt x="6799" y="10761"/>
                  <a:pt x="6530" y="10782"/>
                </a:cubicBezTo>
                <a:cubicBezTo>
                  <a:pt x="6452" y="10788"/>
                  <a:pt x="6273" y="10822"/>
                  <a:pt x="6214" y="10743"/>
                </a:cubicBezTo>
                <a:cubicBezTo>
                  <a:pt x="6221" y="10729"/>
                  <a:pt x="6229" y="10715"/>
                  <a:pt x="6236" y="1070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8"/>
          <p:cNvSpPr/>
          <p:nvPr/>
        </p:nvSpPr>
        <p:spPr>
          <a:xfrm>
            <a:off x="1765440" y="3541680"/>
            <a:ext cx="3504960" cy="58680"/>
          </a:xfrm>
          <a:custGeom>
            <a:avLst/>
            <a:gdLst/>
            <a:ahLst/>
            <a:rect l="l" t="t" r="r" b="b"/>
            <a:pathLst>
              <a:path w="9738" h="163">
                <a:moveTo>
                  <a:pt x="5248" y="9976"/>
                </a:moveTo>
                <a:cubicBezTo>
                  <a:pt x="5145" y="9913"/>
                  <a:pt x="5083" y="9850"/>
                  <a:pt x="4957" y="9838"/>
                </a:cubicBezTo>
                <a:cubicBezTo>
                  <a:pt x="4933" y="9836"/>
                  <a:pt x="4936" y="9865"/>
                  <a:pt x="4912" y="9863"/>
                </a:cubicBezTo>
                <a:cubicBezTo>
                  <a:pt x="5047" y="9876"/>
                  <a:pt x="5181" y="9887"/>
                  <a:pt x="5319" y="9890"/>
                </a:cubicBezTo>
                <a:cubicBezTo>
                  <a:pt x="5996" y="9903"/>
                  <a:pt x="6669" y="9947"/>
                  <a:pt x="7345" y="9971"/>
                </a:cubicBezTo>
                <a:cubicBezTo>
                  <a:pt x="8052" y="9996"/>
                  <a:pt x="8756" y="9997"/>
                  <a:pt x="9464" y="9982"/>
                </a:cubicBezTo>
                <a:cubicBezTo>
                  <a:pt x="10529" y="9959"/>
                  <a:pt x="11591" y="9980"/>
                  <a:pt x="12656" y="9943"/>
                </a:cubicBezTo>
                <a:cubicBezTo>
                  <a:pt x="13318" y="9920"/>
                  <a:pt x="13979" y="9881"/>
                  <a:pt x="14641" y="986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9"/>
          <p:cNvSpPr/>
          <p:nvPr/>
        </p:nvSpPr>
        <p:spPr>
          <a:xfrm>
            <a:off x="3749760" y="3564000"/>
            <a:ext cx="3551040" cy="139680"/>
          </a:xfrm>
          <a:custGeom>
            <a:avLst/>
            <a:gdLst/>
            <a:ahLst/>
            <a:rect l="l" t="t" r="r" b="b"/>
            <a:pathLst>
              <a:path w="9864" h="386">
                <a:moveTo>
                  <a:pt x="20279" y="9901"/>
                </a:moveTo>
                <a:cubicBezTo>
                  <a:pt x="20267" y="9905"/>
                  <a:pt x="20255" y="9919"/>
                  <a:pt x="20240" y="9924"/>
                </a:cubicBezTo>
                <a:cubicBezTo>
                  <a:pt x="20186" y="9942"/>
                  <a:pt x="20134" y="9962"/>
                  <a:pt x="20076" y="9974"/>
                </a:cubicBezTo>
                <a:cubicBezTo>
                  <a:pt x="19472" y="10095"/>
                  <a:pt x="18805" y="9998"/>
                  <a:pt x="18197" y="9969"/>
                </a:cubicBezTo>
                <a:cubicBezTo>
                  <a:pt x="17144" y="9918"/>
                  <a:pt x="16099" y="9954"/>
                  <a:pt x="15046" y="9971"/>
                </a:cubicBezTo>
                <a:cubicBezTo>
                  <a:pt x="13764" y="9992"/>
                  <a:pt x="12511" y="10063"/>
                  <a:pt x="11240" y="10233"/>
                </a:cubicBezTo>
                <a:cubicBezTo>
                  <a:pt x="10964" y="10270"/>
                  <a:pt x="10694" y="10283"/>
                  <a:pt x="10416" y="1028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10"/>
          <p:cNvSpPr/>
          <p:nvPr/>
        </p:nvSpPr>
        <p:spPr>
          <a:xfrm>
            <a:off x="1636560" y="5680080"/>
            <a:ext cx="2386080" cy="106200"/>
          </a:xfrm>
          <a:custGeom>
            <a:avLst/>
            <a:gdLst/>
            <a:ahLst/>
            <a:rect l="l" t="t" r="r" b="b"/>
            <a:pathLst>
              <a:path w="6625" h="299">
                <a:moveTo>
                  <a:pt x="4953" y="15949"/>
                </a:moveTo>
                <a:cubicBezTo>
                  <a:pt x="4934" y="15942"/>
                  <a:pt x="4966" y="15898"/>
                  <a:pt x="4946" y="15895"/>
                </a:cubicBezTo>
                <a:cubicBezTo>
                  <a:pt x="4823" y="15879"/>
                  <a:pt x="4717" y="15964"/>
                  <a:pt x="4588" y="15930"/>
                </a:cubicBezTo>
                <a:cubicBezTo>
                  <a:pt x="4571" y="15926"/>
                  <a:pt x="4554" y="15899"/>
                  <a:pt x="4548" y="15897"/>
                </a:cubicBezTo>
                <a:cubicBezTo>
                  <a:pt x="4582" y="15893"/>
                  <a:pt x="4625" y="15879"/>
                  <a:pt x="4667" y="15878"/>
                </a:cubicBezTo>
                <a:cubicBezTo>
                  <a:pt x="5039" y="15870"/>
                  <a:pt x="5412" y="15888"/>
                  <a:pt x="5784" y="15893"/>
                </a:cubicBezTo>
                <a:cubicBezTo>
                  <a:pt x="7317" y="15915"/>
                  <a:pt x="8854" y="15740"/>
                  <a:pt x="10385" y="15778"/>
                </a:cubicBezTo>
                <a:cubicBezTo>
                  <a:pt x="10647" y="15784"/>
                  <a:pt x="10912" y="15826"/>
                  <a:pt x="11172" y="15864"/>
                </a:cubicBezTo>
                <a:cubicBezTo>
                  <a:pt x="11145" y="15869"/>
                  <a:pt x="11072" y="15885"/>
                  <a:pt x="11038" y="15890"/>
                </a:cubicBezTo>
                <a:cubicBezTo>
                  <a:pt x="10795" y="15924"/>
                  <a:pt x="10549" y="15949"/>
                  <a:pt x="10305" y="15975"/>
                </a:cubicBezTo>
                <a:cubicBezTo>
                  <a:pt x="9939" y="16014"/>
                  <a:pt x="9574" y="16045"/>
                  <a:pt x="9207" y="160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11"/>
          <p:cNvSpPr/>
          <p:nvPr/>
        </p:nvSpPr>
        <p:spPr>
          <a:xfrm>
            <a:off x="5251320" y="5688000"/>
            <a:ext cx="2870280" cy="138240"/>
          </a:xfrm>
          <a:custGeom>
            <a:avLst/>
            <a:gdLst/>
            <a:ahLst/>
            <a:rect l="l" t="t" r="r" b="b"/>
            <a:pathLst>
              <a:path w="7972" h="380">
                <a:moveTo>
                  <a:pt x="14791" y="16181"/>
                </a:moveTo>
                <a:cubicBezTo>
                  <a:pt x="14718" y="16145"/>
                  <a:pt x="14652" y="16107"/>
                  <a:pt x="14586" y="16066"/>
                </a:cubicBezTo>
                <a:cubicBezTo>
                  <a:pt x="14608" y="16069"/>
                  <a:pt x="14629" y="16080"/>
                  <a:pt x="14653" y="16082"/>
                </a:cubicBezTo>
                <a:cubicBezTo>
                  <a:pt x="15131" y="16132"/>
                  <a:pt x="15625" y="16101"/>
                  <a:pt x="16103" y="16069"/>
                </a:cubicBezTo>
                <a:cubicBezTo>
                  <a:pt x="17118" y="16001"/>
                  <a:pt x="18121" y="15917"/>
                  <a:pt x="19139" y="15923"/>
                </a:cubicBezTo>
                <a:cubicBezTo>
                  <a:pt x="20207" y="15929"/>
                  <a:pt x="21353" y="16044"/>
                  <a:pt x="22411" y="15856"/>
                </a:cubicBezTo>
                <a:cubicBezTo>
                  <a:pt x="22471" y="15845"/>
                  <a:pt x="22514" y="15815"/>
                  <a:pt x="22557" y="1580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12"/>
          <p:cNvSpPr/>
          <p:nvPr/>
        </p:nvSpPr>
        <p:spPr>
          <a:xfrm>
            <a:off x="1714680" y="5907240"/>
            <a:ext cx="745920" cy="18720"/>
          </a:xfrm>
          <a:custGeom>
            <a:avLst/>
            <a:gdLst/>
            <a:ahLst/>
            <a:rect l="l" t="t" r="r" b="b"/>
            <a:pathLst>
              <a:path w="2072" h="50">
                <a:moveTo>
                  <a:pt x="4762" y="16459"/>
                </a:moveTo>
                <a:cubicBezTo>
                  <a:pt x="4809" y="16448"/>
                  <a:pt x="4857" y="16441"/>
                  <a:pt x="4905" y="16432"/>
                </a:cubicBezTo>
                <a:cubicBezTo>
                  <a:pt x="4939" y="16426"/>
                  <a:pt x="4965" y="16423"/>
                  <a:pt x="4999" y="16421"/>
                </a:cubicBezTo>
                <a:cubicBezTo>
                  <a:pt x="5058" y="16417"/>
                  <a:pt x="5118" y="16416"/>
                  <a:pt x="5178" y="16415"/>
                </a:cubicBezTo>
                <a:cubicBezTo>
                  <a:pt x="5494" y="16411"/>
                  <a:pt x="5809" y="16414"/>
                  <a:pt x="6124" y="16416"/>
                </a:cubicBezTo>
                <a:cubicBezTo>
                  <a:pt x="6361" y="16418"/>
                  <a:pt x="6597" y="16421"/>
                  <a:pt x="6833" y="1642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comes Greg (V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pope in 107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ought to fix the Chu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required all married priests to abandon their wives and children- CELIB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outlawed lay investiture in 107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a few people a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4"/>
          <p:cNvSpPr/>
          <p:nvPr/>
        </p:nvSpPr>
        <p:spPr>
          <a:xfrm>
            <a:off x="5060880" y="622440"/>
            <a:ext cx="2070000" cy="520560"/>
          </a:xfrm>
          <a:custGeom>
            <a:avLst/>
            <a:gdLst/>
            <a:ahLst/>
            <a:rect l="l" t="t" r="r" b="b"/>
            <a:pathLst>
              <a:path w="5751" h="1445">
                <a:moveTo>
                  <a:pt x="14554" y="2580"/>
                </a:moveTo>
                <a:cubicBezTo>
                  <a:pt x="14552" y="2581"/>
                  <a:pt x="14571" y="2608"/>
                  <a:pt x="14559" y="2615"/>
                </a:cubicBezTo>
                <a:cubicBezTo>
                  <a:pt x="14506" y="2646"/>
                  <a:pt x="14464" y="2651"/>
                  <a:pt x="14400" y="2662"/>
                </a:cubicBezTo>
                <a:cubicBezTo>
                  <a:pt x="14352" y="2668"/>
                  <a:pt x="14334" y="2670"/>
                  <a:pt x="14300" y="2668"/>
                </a:cubicBezTo>
                <a:cubicBezTo>
                  <a:pt x="14279" y="2667"/>
                  <a:pt x="14095" y="2684"/>
                  <a:pt x="14088" y="2656"/>
                </a:cubicBezTo>
                <a:cubicBezTo>
                  <a:pt x="14072" y="2592"/>
                  <a:pt x="14054" y="2619"/>
                  <a:pt x="14169" y="2562"/>
                </a:cubicBezTo>
                <a:cubicBezTo>
                  <a:pt x="14608" y="2345"/>
                  <a:pt x="15292" y="2381"/>
                  <a:pt x="15762" y="2368"/>
                </a:cubicBezTo>
                <a:cubicBezTo>
                  <a:pt x="17071" y="2332"/>
                  <a:pt x="18490" y="2726"/>
                  <a:pt x="19779" y="2568"/>
                </a:cubicBezTo>
                <a:cubicBezTo>
                  <a:pt x="19789" y="2563"/>
                  <a:pt x="19798" y="2557"/>
                  <a:pt x="19808" y="2552"/>
                </a:cubicBezTo>
                <a:cubicBezTo>
                  <a:pt x="19577" y="2475"/>
                  <a:pt x="19347" y="2412"/>
                  <a:pt x="19104" y="2366"/>
                </a:cubicBezTo>
                <a:cubicBezTo>
                  <a:pt x="17761" y="2111"/>
                  <a:pt x="16370" y="2263"/>
                  <a:pt x="15042" y="2030"/>
                </a:cubicBezTo>
                <a:cubicBezTo>
                  <a:pt x="15047" y="2022"/>
                  <a:pt x="15051" y="2015"/>
                  <a:pt x="15056" y="2007"/>
                </a:cubicBezTo>
                <a:cubicBezTo>
                  <a:pt x="15368" y="1929"/>
                  <a:pt x="15686" y="1886"/>
                  <a:pt x="16006" y="1848"/>
                </a:cubicBezTo>
                <a:cubicBezTo>
                  <a:pt x="16975" y="1732"/>
                  <a:pt x="18315" y="1507"/>
                  <a:pt x="19264" y="1844"/>
                </a:cubicBezTo>
                <a:cubicBezTo>
                  <a:pt x="19274" y="1854"/>
                  <a:pt x="19285" y="1863"/>
                  <a:pt x="19295" y="1873"/>
                </a:cubicBezTo>
                <a:cubicBezTo>
                  <a:pt x="19019" y="1909"/>
                  <a:pt x="18750" y="1921"/>
                  <a:pt x="18466" y="1920"/>
                </a:cubicBezTo>
                <a:cubicBezTo>
                  <a:pt x="17236" y="1917"/>
                  <a:pt x="15922" y="1815"/>
                  <a:pt x="14707" y="2050"/>
                </a:cubicBezTo>
                <a:cubicBezTo>
                  <a:pt x="14691" y="2055"/>
                  <a:pt x="14676" y="2061"/>
                  <a:pt x="14660" y="2066"/>
                </a:cubicBezTo>
                <a:cubicBezTo>
                  <a:pt x="14902" y="2077"/>
                  <a:pt x="15143" y="2078"/>
                  <a:pt x="15386" y="2078"/>
                </a:cubicBezTo>
                <a:cubicBezTo>
                  <a:pt x="16544" y="2076"/>
                  <a:pt x="17775" y="2108"/>
                  <a:pt x="18889" y="2457"/>
                </a:cubicBezTo>
                <a:cubicBezTo>
                  <a:pt x="19017" y="2504"/>
                  <a:pt x="19046" y="2505"/>
                  <a:pt x="19106" y="2562"/>
                </a:cubicBezTo>
                <a:cubicBezTo>
                  <a:pt x="18934" y="2620"/>
                  <a:pt x="18750" y="2637"/>
                  <a:pt x="18540" y="2639"/>
                </a:cubicBezTo>
                <a:cubicBezTo>
                  <a:pt x="17511" y="2650"/>
                  <a:pt x="16485" y="2634"/>
                  <a:pt x="15459" y="2719"/>
                </a:cubicBezTo>
                <a:cubicBezTo>
                  <a:pt x="15690" y="2731"/>
                  <a:pt x="15923" y="2735"/>
                  <a:pt x="16155" y="2743"/>
                </a:cubicBezTo>
                <a:cubicBezTo>
                  <a:pt x="17141" y="2777"/>
                  <a:pt x="18321" y="2767"/>
                  <a:pt x="19258" y="3122"/>
                </a:cubicBezTo>
                <a:cubicBezTo>
                  <a:pt x="19317" y="3147"/>
                  <a:pt x="19342" y="3134"/>
                  <a:pt x="19340" y="3172"/>
                </a:cubicBezTo>
                <a:cubicBezTo>
                  <a:pt x="19077" y="3155"/>
                  <a:pt x="18817" y="3129"/>
                  <a:pt x="18555" y="3098"/>
                </a:cubicBezTo>
                <a:cubicBezTo>
                  <a:pt x="17402" y="2962"/>
                  <a:pt x="16209" y="2959"/>
                  <a:pt x="15067" y="2759"/>
                </a:cubicBezTo>
                <a:cubicBezTo>
                  <a:pt x="14787" y="2710"/>
                  <a:pt x="14973" y="2627"/>
                  <a:pt x="15124" y="2568"/>
                </a:cubicBezTo>
                <a:cubicBezTo>
                  <a:pt x="15198" y="2545"/>
                  <a:pt x="15273" y="2522"/>
                  <a:pt x="15347" y="249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5"/>
          <p:cNvSpPr/>
          <p:nvPr/>
        </p:nvSpPr>
        <p:spPr>
          <a:xfrm>
            <a:off x="2449440" y="1922400"/>
            <a:ext cx="2516400" cy="160560"/>
          </a:xfrm>
          <a:custGeom>
            <a:avLst/>
            <a:gdLst/>
            <a:ahLst/>
            <a:rect l="l" t="t" r="r" b="b"/>
            <a:pathLst>
              <a:path w="6992" h="446">
                <a:moveTo>
                  <a:pt x="7539" y="5784"/>
                </a:moveTo>
                <a:cubicBezTo>
                  <a:pt x="7330" y="5602"/>
                  <a:pt x="7169" y="5468"/>
                  <a:pt x="6889" y="5409"/>
                </a:cubicBezTo>
                <a:cubicBezTo>
                  <a:pt x="6862" y="5403"/>
                  <a:pt x="6830" y="5398"/>
                  <a:pt x="6803" y="5393"/>
                </a:cubicBezTo>
                <a:cubicBezTo>
                  <a:pt x="6958" y="5381"/>
                  <a:pt x="7113" y="5372"/>
                  <a:pt x="7268" y="5366"/>
                </a:cubicBezTo>
                <a:cubicBezTo>
                  <a:pt x="9431" y="5281"/>
                  <a:pt x="11569" y="5579"/>
                  <a:pt x="13723" y="5577"/>
                </a:cubicBezTo>
                <a:cubicBezTo>
                  <a:pt x="13747" y="5575"/>
                  <a:pt x="13770" y="5573"/>
                  <a:pt x="13794" y="5571"/>
                </a:cubicBezTo>
                <a:cubicBezTo>
                  <a:pt x="13637" y="5533"/>
                  <a:pt x="13463" y="5488"/>
                  <a:pt x="13294" y="5465"/>
                </a:cubicBezTo>
                <a:cubicBezTo>
                  <a:pt x="12023" y="5289"/>
                  <a:pt x="10727" y="5308"/>
                  <a:pt x="9453" y="5440"/>
                </a:cubicBezTo>
                <a:cubicBezTo>
                  <a:pt x="9364" y="5449"/>
                  <a:pt x="8952" y="5487"/>
                  <a:pt x="8920" y="549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6"/>
          <p:cNvSpPr/>
          <p:nvPr/>
        </p:nvSpPr>
        <p:spPr>
          <a:xfrm>
            <a:off x="2901960" y="3513240"/>
            <a:ext cx="5234040" cy="149040"/>
          </a:xfrm>
          <a:custGeom>
            <a:avLst/>
            <a:gdLst/>
            <a:ahLst/>
            <a:rect l="l" t="t" r="r" b="b"/>
            <a:pathLst>
              <a:path w="14542" h="414">
                <a:moveTo>
                  <a:pt x="8082" y="9902"/>
                </a:moveTo>
                <a:cubicBezTo>
                  <a:pt x="8106" y="9901"/>
                  <a:pt x="8062" y="9917"/>
                  <a:pt x="8086" y="9916"/>
                </a:cubicBezTo>
                <a:cubicBezTo>
                  <a:pt x="8699" y="9880"/>
                  <a:pt x="9314" y="9861"/>
                  <a:pt x="9929" y="9838"/>
                </a:cubicBezTo>
                <a:cubicBezTo>
                  <a:pt x="11643" y="9773"/>
                  <a:pt x="13339" y="9756"/>
                  <a:pt x="15053" y="9836"/>
                </a:cubicBezTo>
                <a:cubicBezTo>
                  <a:pt x="17039" y="9929"/>
                  <a:pt x="19027" y="10095"/>
                  <a:pt x="21014" y="10160"/>
                </a:cubicBezTo>
                <a:cubicBezTo>
                  <a:pt x="21528" y="10177"/>
                  <a:pt x="22059" y="10197"/>
                  <a:pt x="22567" y="10114"/>
                </a:cubicBezTo>
                <a:cubicBezTo>
                  <a:pt x="22586" y="10107"/>
                  <a:pt x="22591" y="10105"/>
                  <a:pt x="22600" y="1009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7"/>
          <p:cNvSpPr/>
          <p:nvPr/>
        </p:nvSpPr>
        <p:spPr>
          <a:xfrm>
            <a:off x="1311120" y="3894120"/>
            <a:ext cx="2859120" cy="71280"/>
          </a:xfrm>
          <a:custGeom>
            <a:avLst/>
            <a:gdLst/>
            <a:ahLst/>
            <a:rect l="l" t="t" r="r" b="b"/>
            <a:pathLst>
              <a:path w="7944" h="202">
                <a:moveTo>
                  <a:pt x="3855" y="10919"/>
                </a:moveTo>
                <a:cubicBezTo>
                  <a:pt x="3783" y="10935"/>
                  <a:pt x="3716" y="10947"/>
                  <a:pt x="3641" y="10957"/>
                </a:cubicBezTo>
                <a:cubicBezTo>
                  <a:pt x="3670" y="10956"/>
                  <a:pt x="3704" y="10956"/>
                  <a:pt x="3734" y="10954"/>
                </a:cubicBezTo>
                <a:cubicBezTo>
                  <a:pt x="5000" y="10868"/>
                  <a:pt x="6271" y="10826"/>
                  <a:pt x="7540" y="10817"/>
                </a:cubicBezTo>
                <a:cubicBezTo>
                  <a:pt x="8612" y="10810"/>
                  <a:pt x="10595" y="11335"/>
                  <a:pt x="11584" y="11013"/>
                </a:cubicBezTo>
                <a:cubicBezTo>
                  <a:pt x="11609" y="11005"/>
                  <a:pt x="11501" y="10967"/>
                  <a:pt x="11526" y="1095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8"/>
          <p:cNvSpPr/>
          <p:nvPr/>
        </p:nvSpPr>
        <p:spPr>
          <a:xfrm>
            <a:off x="1927080" y="4441680"/>
            <a:ext cx="4757760" cy="181080"/>
          </a:xfrm>
          <a:custGeom>
            <a:avLst/>
            <a:gdLst/>
            <a:ahLst/>
            <a:rect l="l" t="t" r="r" b="b"/>
            <a:pathLst>
              <a:path w="13216" h="502">
                <a:moveTo>
                  <a:pt x="5354" y="12344"/>
                </a:moveTo>
                <a:cubicBezTo>
                  <a:pt x="5359" y="12344"/>
                  <a:pt x="5383" y="12351"/>
                  <a:pt x="5396" y="12351"/>
                </a:cubicBezTo>
                <a:cubicBezTo>
                  <a:pt x="5722" y="12340"/>
                  <a:pt x="6045" y="12349"/>
                  <a:pt x="6372" y="12364"/>
                </a:cubicBezTo>
                <a:cubicBezTo>
                  <a:pt x="9139" y="12490"/>
                  <a:pt x="11903" y="12544"/>
                  <a:pt x="14669" y="12706"/>
                </a:cubicBezTo>
                <a:cubicBezTo>
                  <a:pt x="15868" y="12776"/>
                  <a:pt x="17235" y="13002"/>
                  <a:pt x="18434" y="12825"/>
                </a:cubicBezTo>
                <a:cubicBezTo>
                  <a:pt x="18479" y="12818"/>
                  <a:pt x="18540" y="12797"/>
                  <a:pt x="18568" y="12790"/>
                </a:cubicBezTo>
                <a:cubicBezTo>
                  <a:pt x="18564" y="12785"/>
                  <a:pt x="18560" y="12781"/>
                  <a:pt x="18556" y="1277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V throws a tan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was emperor and claimed to be related to Charlemag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’t like that Gregory had taken away all his power (in lay investit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lled a meeting of all the German bishops he had given land and power to and told them to ignore Gr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ent the pope a not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read it shall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4"/>
          <p:cNvSpPr/>
          <p:nvPr/>
        </p:nvSpPr>
        <p:spPr>
          <a:xfrm>
            <a:off x="1344600" y="639720"/>
            <a:ext cx="2158920" cy="403200"/>
          </a:xfrm>
          <a:custGeom>
            <a:avLst/>
            <a:gdLst/>
            <a:ahLst/>
            <a:rect l="l" t="t" r="r" b="b"/>
            <a:pathLst>
              <a:path w="5996" h="1124">
                <a:moveTo>
                  <a:pt x="4135" y="1827"/>
                </a:moveTo>
                <a:cubicBezTo>
                  <a:pt x="4048" y="1852"/>
                  <a:pt x="3955" y="1866"/>
                  <a:pt x="3871" y="1899"/>
                </a:cubicBezTo>
                <a:cubicBezTo>
                  <a:pt x="3826" y="1916"/>
                  <a:pt x="3756" y="1977"/>
                  <a:pt x="3747" y="1983"/>
                </a:cubicBezTo>
                <a:cubicBezTo>
                  <a:pt x="4037" y="1907"/>
                  <a:pt x="4392" y="1735"/>
                  <a:pt x="4686" y="1797"/>
                </a:cubicBezTo>
                <a:cubicBezTo>
                  <a:pt x="4689" y="1809"/>
                  <a:pt x="4692" y="1820"/>
                  <a:pt x="4695" y="1832"/>
                </a:cubicBezTo>
                <a:cubicBezTo>
                  <a:pt x="4594" y="2000"/>
                  <a:pt x="4478" y="2131"/>
                  <a:pt x="4329" y="2266"/>
                </a:cubicBezTo>
                <a:cubicBezTo>
                  <a:pt x="4234" y="2353"/>
                  <a:pt x="4133" y="2433"/>
                  <a:pt x="4035" y="2516"/>
                </a:cubicBezTo>
                <a:cubicBezTo>
                  <a:pt x="4003" y="2540"/>
                  <a:pt x="3996" y="2541"/>
                  <a:pt x="3984" y="2561"/>
                </a:cubicBezTo>
                <a:cubicBezTo>
                  <a:pt x="4170" y="2459"/>
                  <a:pt x="4355" y="2356"/>
                  <a:pt x="4546" y="2261"/>
                </a:cubicBezTo>
                <a:cubicBezTo>
                  <a:pt x="4793" y="2137"/>
                  <a:pt x="5059" y="2017"/>
                  <a:pt x="5308" y="1922"/>
                </a:cubicBezTo>
                <a:cubicBezTo>
                  <a:pt x="5265" y="1979"/>
                  <a:pt x="5226" y="2040"/>
                  <a:pt x="5178" y="2096"/>
                </a:cubicBezTo>
                <a:cubicBezTo>
                  <a:pt x="4982" y="2323"/>
                  <a:pt x="4754" y="2526"/>
                  <a:pt x="4559" y="2751"/>
                </a:cubicBezTo>
                <a:cubicBezTo>
                  <a:pt x="4648" y="2710"/>
                  <a:pt x="4742" y="2667"/>
                  <a:pt x="4831" y="2618"/>
                </a:cubicBezTo>
                <a:cubicBezTo>
                  <a:pt x="5317" y="2354"/>
                  <a:pt x="5824" y="2073"/>
                  <a:pt x="6353" y="1904"/>
                </a:cubicBezTo>
                <a:cubicBezTo>
                  <a:pt x="6367" y="1902"/>
                  <a:pt x="6382" y="1899"/>
                  <a:pt x="6396" y="1897"/>
                </a:cubicBezTo>
                <a:cubicBezTo>
                  <a:pt x="6376" y="1926"/>
                  <a:pt x="6328" y="2004"/>
                  <a:pt x="6281" y="2050"/>
                </a:cubicBezTo>
                <a:cubicBezTo>
                  <a:pt x="6024" y="2306"/>
                  <a:pt x="5724" y="2517"/>
                  <a:pt x="5444" y="2746"/>
                </a:cubicBezTo>
                <a:cubicBezTo>
                  <a:pt x="5496" y="2713"/>
                  <a:pt x="5525" y="2694"/>
                  <a:pt x="5577" y="2661"/>
                </a:cubicBezTo>
                <a:cubicBezTo>
                  <a:pt x="5945" y="2429"/>
                  <a:pt x="6378" y="2092"/>
                  <a:pt x="6807" y="1993"/>
                </a:cubicBezTo>
                <a:cubicBezTo>
                  <a:pt x="6843" y="1987"/>
                  <a:pt x="6851" y="1979"/>
                  <a:pt x="6865" y="1999"/>
                </a:cubicBezTo>
                <a:cubicBezTo>
                  <a:pt x="6809" y="2076"/>
                  <a:pt x="6761" y="2153"/>
                  <a:pt x="6690" y="2226"/>
                </a:cubicBezTo>
                <a:cubicBezTo>
                  <a:pt x="6455" y="2468"/>
                  <a:pt x="6170" y="2658"/>
                  <a:pt x="5905" y="2864"/>
                </a:cubicBezTo>
                <a:cubicBezTo>
                  <a:pt x="6053" y="2789"/>
                  <a:pt x="6200" y="2711"/>
                  <a:pt x="6346" y="2631"/>
                </a:cubicBezTo>
                <a:cubicBezTo>
                  <a:pt x="6689" y="2444"/>
                  <a:pt x="7072" y="2189"/>
                  <a:pt x="7466" y="2130"/>
                </a:cubicBezTo>
                <a:cubicBezTo>
                  <a:pt x="7474" y="2134"/>
                  <a:pt x="7483" y="2137"/>
                  <a:pt x="7491" y="2141"/>
                </a:cubicBezTo>
                <a:cubicBezTo>
                  <a:pt x="7452" y="2203"/>
                  <a:pt x="7426" y="2267"/>
                  <a:pt x="7370" y="2330"/>
                </a:cubicBezTo>
                <a:cubicBezTo>
                  <a:pt x="7172" y="2555"/>
                  <a:pt x="6915" y="2741"/>
                  <a:pt x="6663" y="2898"/>
                </a:cubicBezTo>
                <a:cubicBezTo>
                  <a:pt x="6723" y="2856"/>
                  <a:pt x="6786" y="2807"/>
                  <a:pt x="6850" y="2767"/>
                </a:cubicBezTo>
                <a:cubicBezTo>
                  <a:pt x="7169" y="2567"/>
                  <a:pt x="7529" y="2347"/>
                  <a:pt x="7894" y="2248"/>
                </a:cubicBezTo>
                <a:cubicBezTo>
                  <a:pt x="7897" y="2251"/>
                  <a:pt x="7900" y="2254"/>
                  <a:pt x="7903" y="2257"/>
                </a:cubicBezTo>
                <a:cubicBezTo>
                  <a:pt x="7838" y="2323"/>
                  <a:pt x="7772" y="2390"/>
                  <a:pt x="7702" y="2454"/>
                </a:cubicBezTo>
                <a:cubicBezTo>
                  <a:pt x="7545" y="2597"/>
                  <a:pt x="7375" y="2724"/>
                  <a:pt x="7208" y="2854"/>
                </a:cubicBezTo>
                <a:cubicBezTo>
                  <a:pt x="7278" y="2810"/>
                  <a:pt x="7353" y="2763"/>
                  <a:pt x="7423" y="2717"/>
                </a:cubicBezTo>
                <a:cubicBezTo>
                  <a:pt x="7810" y="2466"/>
                  <a:pt x="8198" y="2209"/>
                  <a:pt x="8604" y="1990"/>
                </a:cubicBezTo>
                <a:cubicBezTo>
                  <a:pt x="8678" y="1950"/>
                  <a:pt x="8748" y="1925"/>
                  <a:pt x="8825" y="1894"/>
                </a:cubicBezTo>
                <a:cubicBezTo>
                  <a:pt x="8809" y="1919"/>
                  <a:pt x="8756" y="2012"/>
                  <a:pt x="8714" y="2059"/>
                </a:cubicBezTo>
                <a:cubicBezTo>
                  <a:pt x="8529" y="2267"/>
                  <a:pt x="8310" y="2447"/>
                  <a:pt x="8117" y="2647"/>
                </a:cubicBezTo>
                <a:cubicBezTo>
                  <a:pt x="8164" y="2618"/>
                  <a:pt x="8246" y="2569"/>
                  <a:pt x="8301" y="2531"/>
                </a:cubicBezTo>
                <a:cubicBezTo>
                  <a:pt x="8624" y="2308"/>
                  <a:pt x="8942" y="2029"/>
                  <a:pt x="9270" y="1841"/>
                </a:cubicBezTo>
                <a:cubicBezTo>
                  <a:pt x="9194" y="1961"/>
                  <a:pt x="9121" y="2063"/>
                  <a:pt x="9017" y="2168"/>
                </a:cubicBezTo>
                <a:cubicBezTo>
                  <a:pt x="8841" y="2346"/>
                  <a:pt x="8645" y="2518"/>
                  <a:pt x="8430" y="2647"/>
                </a:cubicBezTo>
                <a:cubicBezTo>
                  <a:pt x="8455" y="2621"/>
                  <a:pt x="8471" y="2607"/>
                  <a:pt x="8498" y="2594"/>
                </a:cubicBezTo>
                <a:cubicBezTo>
                  <a:pt x="8877" y="2362"/>
                  <a:pt x="9284" y="2124"/>
                  <a:pt x="9725" y="2054"/>
                </a:cubicBezTo>
                <a:cubicBezTo>
                  <a:pt x="9685" y="2110"/>
                  <a:pt x="9649" y="2181"/>
                  <a:pt x="9585" y="2245"/>
                </a:cubicBezTo>
                <a:cubicBezTo>
                  <a:pt x="9422" y="2408"/>
                  <a:pt x="9230" y="2545"/>
                  <a:pt x="9059" y="2699"/>
                </a:cubicBezTo>
                <a:cubicBezTo>
                  <a:pt x="9059" y="2700"/>
                  <a:pt x="9060" y="2700"/>
                  <a:pt x="9060" y="2701"/>
                </a:cubicBezTo>
                <a:cubicBezTo>
                  <a:pt x="9126" y="2661"/>
                  <a:pt x="9191" y="2616"/>
                  <a:pt x="9259" y="2578"/>
                </a:cubicBezTo>
                <a:cubicBezTo>
                  <a:pt x="9390" y="2505"/>
                  <a:pt x="9508" y="2437"/>
                  <a:pt x="9627" y="234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5"/>
          <p:cNvSpPr/>
          <p:nvPr/>
        </p:nvSpPr>
        <p:spPr>
          <a:xfrm>
            <a:off x="2890800" y="1903320"/>
            <a:ext cx="1565280" cy="88920"/>
          </a:xfrm>
          <a:custGeom>
            <a:avLst/>
            <a:gdLst/>
            <a:ahLst/>
            <a:rect l="l" t="t" r="r" b="b"/>
            <a:pathLst>
              <a:path w="4347" h="243">
                <a:moveTo>
                  <a:pt x="8288" y="5481"/>
                </a:moveTo>
                <a:cubicBezTo>
                  <a:pt x="8212" y="5475"/>
                  <a:pt x="8167" y="5487"/>
                  <a:pt x="8087" y="5505"/>
                </a:cubicBezTo>
                <a:cubicBezTo>
                  <a:pt x="8070" y="5509"/>
                  <a:pt x="8051" y="5511"/>
                  <a:pt x="8035" y="5515"/>
                </a:cubicBezTo>
                <a:cubicBezTo>
                  <a:pt x="8034" y="5515"/>
                  <a:pt x="8033" y="5515"/>
                  <a:pt x="8032" y="5515"/>
                </a:cubicBezTo>
                <a:cubicBezTo>
                  <a:pt x="8056" y="5516"/>
                  <a:pt x="8083" y="5516"/>
                  <a:pt x="8107" y="5517"/>
                </a:cubicBezTo>
                <a:cubicBezTo>
                  <a:pt x="8502" y="5538"/>
                  <a:pt x="8894" y="5509"/>
                  <a:pt x="9288" y="5489"/>
                </a:cubicBezTo>
                <a:cubicBezTo>
                  <a:pt x="9720" y="5467"/>
                  <a:pt x="10152" y="5453"/>
                  <a:pt x="10585" y="5470"/>
                </a:cubicBezTo>
                <a:cubicBezTo>
                  <a:pt x="10971" y="5485"/>
                  <a:pt x="11359" y="5543"/>
                  <a:pt x="11746" y="5529"/>
                </a:cubicBezTo>
                <a:cubicBezTo>
                  <a:pt x="11893" y="5524"/>
                  <a:pt x="12041" y="5502"/>
                  <a:pt x="12182" y="5458"/>
                </a:cubicBezTo>
                <a:cubicBezTo>
                  <a:pt x="12269" y="5431"/>
                  <a:pt x="12312" y="5389"/>
                  <a:pt x="12366" y="5323"/>
                </a:cubicBezTo>
                <a:cubicBezTo>
                  <a:pt x="12370" y="5312"/>
                  <a:pt x="12374" y="5300"/>
                  <a:pt x="12378" y="528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6"/>
          <p:cNvSpPr/>
          <p:nvPr/>
        </p:nvSpPr>
        <p:spPr>
          <a:xfrm>
            <a:off x="903240" y="2363760"/>
            <a:ext cx="3865680" cy="123840"/>
          </a:xfrm>
          <a:custGeom>
            <a:avLst/>
            <a:gdLst/>
            <a:ahLst/>
            <a:rect l="l" t="t" r="r" b="b"/>
            <a:pathLst>
              <a:path w="10740" h="344">
                <a:moveTo>
                  <a:pt x="2509" y="6907"/>
                </a:moveTo>
                <a:cubicBezTo>
                  <a:pt x="2543" y="6895"/>
                  <a:pt x="2575" y="6875"/>
                  <a:pt x="2611" y="6862"/>
                </a:cubicBezTo>
                <a:cubicBezTo>
                  <a:pt x="2701" y="6830"/>
                  <a:pt x="2787" y="6807"/>
                  <a:pt x="2881" y="6786"/>
                </a:cubicBezTo>
                <a:cubicBezTo>
                  <a:pt x="3870" y="6569"/>
                  <a:pt x="4847" y="6627"/>
                  <a:pt x="5839" y="6774"/>
                </a:cubicBezTo>
                <a:cubicBezTo>
                  <a:pt x="7937" y="7084"/>
                  <a:pt x="9976" y="6652"/>
                  <a:pt x="12069" y="6573"/>
                </a:cubicBezTo>
                <a:cubicBezTo>
                  <a:pt x="12410" y="6560"/>
                  <a:pt x="12917" y="6488"/>
                  <a:pt x="13245" y="6628"/>
                </a:cubicBezTo>
                <a:cubicBezTo>
                  <a:pt x="13274" y="6640"/>
                  <a:pt x="13143" y="6634"/>
                  <a:pt x="13166" y="66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what Gregory did 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good to have the weight of a God on your s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story sho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 bishops abandoned Henry and backed the P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begged Gregory for forg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found Gregory in the Swiss Alps in a town called Canossa, who had to forgive him (I think its’ in the Bible or some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made Henry wait in the snow for three days before he forgave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mention that Henry was practically nak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1 – Lords – 0 (kind o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all finally decided with W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ordat of Worms, the Church and the representatives of the emperor met and agre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would give all bishops their ring and their staff (signs of the Church office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peror would grant the land that went with th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OOOO… nothing really gets worked out for sure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kind o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excommunication hadn’t work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Church could do to a guy who didn’t come to his senses when the Church threw him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1:06:06Z</dcterms:created>
  <dc:creator>Darien Public Schools</dc:creator>
  <dc:description/>
  <dc:language>en-US</dc:language>
  <cp:lastModifiedBy>Administrator</cp:lastModifiedBy>
  <dcterms:modified xsi:type="dcterms:W3CDTF">2010-12-10T19:26:56Z</dcterms:modified>
  <cp:revision>20</cp:revision>
  <dc:subject/>
  <dc:title>All is not well in GRACEland</dc:title>
</cp:coreProperties>
</file>